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C677-C22D-47F2-A2BA-2158A8A3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469D4-5EEB-4414-8944-7487D90D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0A58-C3A3-4DE5-B7A6-C01932AA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0E0A5-8D51-4C21-813A-54FADF01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8E34-75CB-4039-9990-DFBF245E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E185-ABFC-4C87-B716-7CE007CC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49E6-74F9-46CA-B036-9E9A26BB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3443-C728-48F7-AB6D-5E993F5D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9A6F-F47F-45A7-952A-66D50584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22E3-B1E2-41CC-AA26-9EBF174B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CE64-1E04-4DB4-AE77-D0245458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91A0-4EEA-4737-9E87-2F49B105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FD96-3207-4858-B208-A0D5559F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1653-8A07-44E2-B6E6-9379462C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BBEB-2826-4F2B-9113-B2BCD6E5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A7AC-608C-4580-A621-C530194C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B5B9-A903-45B0-93AB-5216B2FE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5BA25-C962-48EA-B2EA-69780C8B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DE2FB-D9C9-40E6-93DB-57FF5FF5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5BD5B-C420-4D12-A4CB-29A0C6A5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7281-A9CE-4C4F-9E05-A652ECA4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A514C-9708-4188-B650-3CB0C4EF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B87A-F2CD-41AF-ABB8-5911A307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C9EB5-A09A-4CE9-9587-F9EB50EC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CD92-C209-4332-A0BC-C051D797EE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C17F-CEEF-40C8-AFE2-28DC7FEDC5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word Crypt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Crypt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basic observation of cryptanalysis is that every letter of a language has a personality of its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very plaintext t is changed to a ciphertext m, then in the ciphertext, m assumes the personality of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trained observer, the personality of a letter gives away its 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personality characteristic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of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with othe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withi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D06A3-F3A8-45A9-A7C4-9B2622A5DD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English Frequency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 T  A  O  N  I  R  S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L U C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F Y W G B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K Q X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11760" y="4332240"/>
            <a:ext cx="4765680" cy="2286000"/>
            <a:chOff x="3911760" y="4332240"/>
            <a:chExt cx="4765680" cy="2286000"/>
          </a:xfrm>
        </p:grpSpPr>
        <p:sp>
          <p:nvSpPr>
            <p:cNvPr id="118" name=""/>
            <p:cNvSpPr/>
            <p:nvPr/>
          </p:nvSpPr>
          <p:spPr>
            <a:xfrm>
              <a:off x="3911760" y="4332240"/>
              <a:ext cx="4765680" cy="2286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88080" y="4484520"/>
              <a:ext cx="453708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There is usually a sharp bre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between the high and medium groups. That is, H is usually 6% and D is usually 4%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SO:  look for the break between the high and medium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6F2B-D2AD-4B07-8178-0BD4AD58F6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Frequency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to look for in a frequenc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hills and valleys similar to standard English then the cipher is most likely a substitution, 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break between high frequency and medium frequency (look for a 2% drop between two let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frequent letter is probably “e” or at least “t” or “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34FA0-206B-492D-BCA6-DCDBF1D2B7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Frequenc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7840" y="1571760"/>
            <a:ext cx="8229600" cy="16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it is one of the most useful tools in cryptanalysis, CAP provides a frequency analysi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requency under the Basic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59040" y="3200400"/>
            <a:ext cx="4481280" cy="350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FC0C-37F4-4957-93FF-095454C05D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 will display the frequency in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raph menu and click on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68440" y="3363840"/>
            <a:ext cx="7772400" cy="30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972B-C7C4-4CBB-AB33-62489E4E91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8360" y="1926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some possible substitutions test them using  the keyword worksheet to manually look for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16320" y="3411360"/>
            <a:ext cx="5128920" cy="344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0DC8C-566C-4138-BFF4-6D44EA52FF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6T01:37:58Z</dcterms:modified>
  <cp:revision>51</cp:revision>
  <dc:subject/>
  <dc:title>CAP Cryptographic Analysis Program</dc:title>
</cp:coreProperties>
</file>